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5ED-3B18-4FCD-ACEA-ED46B48A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A7C-DB4A-4681-A939-EE22318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56C-7C81-459B-BBC7-E32DB3C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F0B-ABEC-4D02-9548-69D6DBD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16D-BADD-4EFB-8799-85BAD80C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C56-C261-47B6-89A5-307F58BF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4D7-BBE7-4261-8341-01E787AD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9EB-FA9A-4CCE-A618-4F65AFA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C73-2D4C-4B95-861C-4035A467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6F9-74F8-4190-9BE5-0F02A86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A6C-BB7D-479E-A6AB-FA20435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F6E-21F4-4205-BEB4-411F9B89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7A0-D297-419C-A5C7-4C026E3A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10520" y="58770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4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05:25Z</dcterms:created>
  <dc:creator>J.E Campagne</dc:creator>
  <dc:description/>
  <dc:language>en-US</dc:language>
  <cp:lastModifiedBy>J.E Campagne</cp:lastModifiedBy>
  <dcterms:modified xsi:type="dcterms:W3CDTF">2006-04-06T15:06:11Z</dcterms:modified>
  <cp:revision>2</cp:revision>
  <dc:subject/>
  <dc:title>Diapositive 1</dc:title>
</cp:coreProperties>
</file>